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6A4A-78A0-4259-B35B-C2A65D47D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83E6-C6AA-4A79-AFEF-D02E89F8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84CB-7778-419D-99F1-5242540B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83D5-A915-42FA-A0CB-E79AF7BBC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52E7E-4FD6-4D73-B849-3D47EF4A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03CC7-DE45-4C0A-A79A-810F447D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BD57E-9526-4F47-8654-B5B153EC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6AB06-F10A-4F8E-9BCA-99FECA0C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A1657-170F-4262-AE8B-99B05BD3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36D6C-0031-48BB-8DFB-B755921D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02701-7885-4425-8D6E-2658B5E5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B6B4-8642-4F48-BCE5-A6353F27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C2C63-2D91-45C6-B8B0-2CD7E550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070BC-0D8E-4654-B365-7C2B9F1E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3FC76-64CA-4B9B-82D3-C6D4D13A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BAAEE-1F96-4575-A830-35A4AD68E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5CFA4-5B6F-45C2-901B-61FE1344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4A68-B316-4793-9C4C-698F00A1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3899-1B71-448D-9DC9-D9E5B5AF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BD19-99C0-484B-888F-4D44EA31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516E-A39E-4278-8D4E-0066C866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EF99-64CE-4C89-BC83-6EBF8DC8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7E00-C443-49D6-96D6-14D61F81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25ED-6ACF-42ED-96C8-1F989E52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9DFB-E332-44BC-B08C-E94957C593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458B-58B6-4AD7-82EC-7E8BF86B1D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"/>
              </a:rPr>
              <a:t>Brain Gym Academ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erlin Sans FB"/>
              </a:rPr>
              <a:t>Marichu Bolocon- Jerusal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de 1, Room 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ne 2011 to March 20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380880"/>
            <a:ext cx="8153280" cy="6172200"/>
          </a:xfrm>
          <a:prstGeom prst="rect">
            <a:avLst/>
          </a:prstGeom>
          <a:noFill/>
          <a:ln w="7632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96080" y="53341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779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comic"/>
              </a:rPr>
              <a:t>Mathematic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Position of Obje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Pattern and Compari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Understanding Numer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dd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ub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486400" y="3124080"/>
            <a:ext cx="3276720" cy="2973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8600" y="228600"/>
            <a:ext cx="8763120" cy="6400800"/>
          </a:xfrm>
          <a:prstGeom prst="rect">
            <a:avLst/>
          </a:prstGeom>
          <a:noFill/>
          <a:ln w="7632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562720" y="2971800"/>
            <a:ext cx="3206520" cy="3429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comic"/>
              </a:rPr>
              <a:t>scie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Parts of the B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Living and Non-living th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Mat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Wea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e Ea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228600"/>
            <a:ext cx="8763120" cy="6400800"/>
          </a:xfrm>
          <a:prstGeom prst="rect">
            <a:avLst/>
          </a:prstGeom>
          <a:noFill/>
          <a:ln w="7632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comic"/>
              </a:rPr>
              <a:t>READ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onsonant Sou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onsonant and Vowel Sou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Ble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Digrap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Long Vowel Sou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228600"/>
            <a:ext cx="8763120" cy="6400800"/>
          </a:xfrm>
          <a:prstGeom prst="rect">
            <a:avLst/>
          </a:prstGeom>
          <a:noFill/>
          <a:ln w="7632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105520" y="2971800"/>
            <a:ext cx="3657600" cy="3581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0574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Tahoma"/>
              </a:rPr>
              <a:t>Brain Gym Academy will make your Child a Functionally Literate Individual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2:12:05Z</dcterms:created>
  <dc:creator>rusty</dc:creator>
  <dc:description/>
  <dc:language>en-US</dc:language>
  <cp:lastModifiedBy>rusty</cp:lastModifiedBy>
  <dcterms:modified xsi:type="dcterms:W3CDTF">2011-10-03T13:01:25Z</dcterms:modified>
  <cp:revision>5</cp:revision>
  <dc:subject/>
  <dc:title>Brain Gym Academy</dc:title>
</cp:coreProperties>
</file>